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CB6-0B35-4ED0-B2D0-4EC89844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1A9-B4B9-4DD9-90C8-0B430851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2B14-E4D0-470B-A881-22881BAD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9D3-FCD7-4D8E-923B-0F0C2FE0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68A-E032-48EA-AA02-83B6E043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D97-F73A-4634-9122-F4380442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B53-431B-41B6-A77E-A2EACC5A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EC0-E2FF-4C63-8C90-CCD47158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A99-FA89-4010-BD69-2C923D9A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F06-38A6-408E-BCDA-3E19C97C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FC0-E6A5-4E2C-9B10-AD96926D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748-293F-43ED-AD4B-27757CAF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50936-5208-4E01-A5AD-D830C0664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16:11:19Z</dcterms:created>
  <dc:creator>tester </dc:creator>
  <dc:description/>
  <dc:language>en-US</dc:language>
  <cp:lastModifiedBy/>
  <cp:revision>0</cp:revision>
  <dc:subject/>
  <dc:title/>
</cp:coreProperties>
</file>